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5F51-45FE-41A5-9334-D6AE5379A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3909-6D18-4DB2-B602-C606CEEA3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4E22-54C5-42BA-8C9D-2A1305EA2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98A1-D7AA-4D77-80CE-BF969091A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74F7-A750-4331-B204-A9D2CB7DE6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CAAE-94BE-4992-BBFF-255A0264A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5F9A-2711-44C1-862D-BAD9CB1A7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AE58-9FDF-4E7D-8ABA-9D363450E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F723-73ED-4E6A-B2FD-754F89000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CB88-A450-4583-82D9-8686428CD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0C03-709C-4567-9CD0-5E8E582D9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19A6-24B7-4769-875E-9DCB87B96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01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9032-312D-4A1A-8C30-308DAB813CA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524640"/>
            <a:ext cx="874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Arial"/>
              </a:rPr>
              <a:t>Министерство здравоохранения Республики Татарстан </a:t>
            </a: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www.minzdrav.tatar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ститель министра здравоохранения Р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льманов Анас Анв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28000" y="270000"/>
            <a:ext cx="8668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549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стерство здравоохранения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638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нь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«Проблемы в организации амбулаторно-поликлинической помощи насе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CDA2-BD72-4F90-853B-244EABF059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оличество УЗ-исследований, оказанных жителям Республики Татарстан 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Rectangle 3"/>
          <p:cNvGraphicFramePr/>
          <p:nvPr/>
        </p:nvGraphicFramePr>
        <p:xfrm>
          <a:off x="523800" y="1828800"/>
          <a:ext cx="8220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828800"/>
                    <a:ext cx="8220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04F2-B932-4AE0-9BEB-15E422A3C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личество эндоскопических исследований, оказанных жителям Республики Татарстан в 1998-2007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Rectangle 3"/>
          <p:cNvGraphicFramePr/>
          <p:nvPr/>
        </p:nvGraphicFramePr>
        <p:xfrm>
          <a:off x="600120" y="1828800"/>
          <a:ext cx="80676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828800"/>
                    <a:ext cx="80676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28B1-0E1D-4EF8-B1C9-FCBA5A7FB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Количество функциональных исследований, оказанных жителям Республики Татарстан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(на 100 амбулаторных посещений)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Rectangle 3"/>
          <p:cNvGraphicFramePr/>
          <p:nvPr/>
        </p:nvGraphicFramePr>
        <p:xfrm>
          <a:off x="723960" y="1828800"/>
          <a:ext cx="79722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828800"/>
                    <a:ext cx="79722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Line 8"/>
          <p:cNvSpPr/>
          <p:nvPr/>
        </p:nvSpPr>
        <p:spPr>
          <a:xfrm>
            <a:off x="179280" y="1700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D79F-B606-422D-8DA6-79644BBF8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Количество рентгеновских исследований, оказанных жителям Республики Татарстан (на 100 амбулаторных посещений) 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Rectangle 3"/>
          <p:cNvGraphicFramePr/>
          <p:nvPr/>
        </p:nvGraphicFramePr>
        <p:xfrm>
          <a:off x="647640" y="1828800"/>
          <a:ext cx="8134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828800"/>
                    <a:ext cx="8134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22FC-A33C-40D8-B475-E0BBA8E18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902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585-BCE5-47D7-B034-9EEF096F4B5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труктура посещений поликлиники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 цели визита</a:t>
            </a:r>
            <a:r>
              <a:rPr b="1" lang="en-US" sz="1000" spc="-1" strike="noStrike">
                <a:solidFill>
                  <a:srgbClr val="004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90440" y="1733400"/>
          <a:ext cx="8724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733400"/>
                    <a:ext cx="872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93C7-6372-4484-B9A3-50D4212743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902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AC6-EF38-4E22-93AA-E0F4A95B9A1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труктура посещений поликлиники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 заболеваниям</a:t>
            </a:r>
            <a:r>
              <a:rPr b="1" lang="en-US" sz="1000" spc="-1" strike="noStrike">
                <a:solidFill>
                  <a:srgbClr val="004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90440" y="1733400"/>
          <a:ext cx="8724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733400"/>
                    <a:ext cx="872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08BC-C67D-4B63-9CE7-7E6C39ABAF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ОСТРЫЙ ДЕФИЦ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мещений в амбулаторно-поликлинических учреждениях, который оценивается в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70-80 тысяч кв.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ичины, вызывающие появление очередей в лечебных учрежд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E9F6-2F9A-4D3B-AFDD-08B9170531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фицит врачебных кадров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йоны Республики Татарстан с самой низкой обеспеченностью врачам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на 10 000 постоянного насел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141720"/>
          <a:ext cx="8229600" cy="3162240"/>
        </p:xfrm>
        <a:graphic>
          <a:graphicData uri="http://schemas.openxmlformats.org/drawingml/2006/table">
            <a:tbl>
              <a:tblPr/>
              <a:tblGrid>
                <a:gridCol w="6192720"/>
                <a:gridCol w="203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жжан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суба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зели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йбиц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иш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ке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ныш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мшан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ичины, вызывающие появление очередей в лечебных учрежд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7923-3F16-4933-847D-BA52F56DE7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ичины, вызывающие появление очередей в лечебных учрежд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ожившаяся практика организации работы, отсутствие эффективного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55E3-C607-4A82-89FA-D3939A3612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ичины, вызывающие появление очередей в лечебных учрежд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череди, вызванные необоснованными управленческими реш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D677-1C00-417F-A84A-805F21E96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Меры, направленные на совершенствование первичной медико-санитарной помощ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Оснащение амбулаторно-поликлинических учреждений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медицинским оборудованием в рамках национального проекта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«Здоровь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205000"/>
            <a:ext cx="82296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Доплаты участковым врачам терапевтам, педиатрам, ВОП и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работающим с ними медицинским сестрам в рамках национального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проекта «Здоровь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800" y="2205000"/>
            <a:ext cx="82296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Доплаты в рамках национального проекта «Здоровье»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фельдшерам ФАП, врачам и сотрудникам скорой медицинской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4.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В рамках национального проекта «Здоровье» внедрение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родового сертификата в части финансирования женских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консультации и детских поликлиник позволило существенно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улучшить их оснащение медицинским оборудованием и повысить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аработную плату сотрудник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203560"/>
            <a:ext cx="8229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9320" indent="-499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5.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Вакцинопрофилпактика, проводимая в рамках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национального проекта «Здоровье», позволила предотвратить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эпидемический подъем гриппа, гепатита и красн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520" y="170028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31720" indent="-53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6.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В рамках национального проекта «Здоровье» за первичную медико-санитарную помощь работающих граждан в поликлиники только в 2007 году поступило 22 млн. рублей, за проведение дополнительной диспансеризации граждан, работающих в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учреждениях шести бюджетных сфер 77 млн. рублей и за углубленные медицинские осмотры работников, занятых на работах во вредных и (опасных) производственных факторах 73 млн. рубл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20356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23360" indent="-423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7.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В республике активно внедряется служба В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8.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Изменено время приема врачом в условиях амбулаторно- поликлинических учреждений с 12 минут до 20 минут. Врачам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редоставлено право единовременной выдачи листка нетрудоспособности на срок до 10 дней, вместо 3 дней ранее, и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диноличной до 30 дней, вместо 6 дней. Рекомендовано сокращать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ремя работы на дому, расширяя объем помощи в поликлин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77336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За три прошедших года объем государственного задания в посещениях был поэтапно доведен до федерального норматива при адекватном повышении тарифа: посещения сокращены с 12 до 9 на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жителя или на одну треть, тариф возрос с 40 рублей за одно врачебное посещение в 2005 году до 120 рублей в 2007 году или в 3 раза. Поликлиникам установлены задания на амбулаторную хирург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10.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В муниципальных образованиях сложилось понимание важности развития службы общей врачебной практики и в целом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первичного звена здравоохранения. Во многих из них ведется активная инициативная работа по укреплению материально-</a:t>
            </a: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технической базы, разработке новых подходов в организации медицинской помощи населению, информатизации АП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E179-F01E-49B8-939B-C7E8ED3ABC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ичины, вызывающие появление очередей в лечебных учрежд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достаточная информированность населения и сформированный с участием здравоохранения ментал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D48C-44E6-41A6-9799-B652C7EF2D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175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Спасибо за </a:t>
            </a: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en-US" sz="7200" spc="-1" strike="noStrike">
                <a:solidFill>
                  <a:srgbClr val="990000"/>
                </a:solidFill>
                <a:latin typeface="Times New Roman"/>
              </a:rPr>
              <a:t>        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83CB-3B44-404A-B898-6124F50DF9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зидент Республики Татарстан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интимер Шарипович ШАЙМИЕ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«Очереди в поликлиниках стали не исключением, а правилом, навязанным насе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53DF-96E2-4C11-A0AF-620F32E3A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«Очередь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хождение возле регистратуры, кабинета врача, диагностического или иных кабинетов в ожидании приема или получения иной медицинской услуги одновременно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4-х или более челове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88000" y="4508640"/>
            <a:ext cx="2273040" cy="1520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72837" t="0" r="0" b="0"/>
          <a:stretch/>
        </p:blipFill>
        <p:spPr>
          <a:xfrm>
            <a:off x="6843600" y="4508640"/>
            <a:ext cx="617760" cy="152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72837" t="0" r="0" b="0"/>
          <a:stretch/>
        </p:blipFill>
        <p:spPr>
          <a:xfrm>
            <a:off x="7236000" y="4508640"/>
            <a:ext cx="617400" cy="1520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72837" t="0" r="0" b="0"/>
          <a:stretch/>
        </p:blipFill>
        <p:spPr>
          <a:xfrm>
            <a:off x="7596360" y="4508640"/>
            <a:ext cx="617400" cy="152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A2FC-80BA-44F5-A68D-4393A185A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Мощность амбулаторно-поликлинических учреждений Республики Татарстан </a:t>
            </a:r>
            <a:br>
              <a:rPr sz="2400"/>
            </a:b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(посещений в смену) в 1997-2007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200160" y="1390680"/>
          <a:ext cx="879156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390680"/>
                    <a:ext cx="879156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8"/>
          <p:cNvSpPr/>
          <p:nvPr/>
        </p:nvSpPr>
        <p:spPr>
          <a:xfrm>
            <a:off x="179280" y="141300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7EEB-AAC6-4BF6-837F-7A19B453B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Количество посещений, выполненных по Программе государственных гарантий обеспечения граждан РТ бесплатной медицинской помощью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 2004-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1525680" y="22050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2050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Line 8"/>
          <p:cNvSpPr/>
          <p:nvPr/>
        </p:nvSpPr>
        <p:spPr>
          <a:xfrm>
            <a:off x="179280" y="162864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4BD6-060E-4AC9-8C07-75FF7B7ED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томатологическая помощь, оказанная жителям Республики Татарстан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(посещений на одного жителя) 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Rectangle 3"/>
          <p:cNvGraphicFramePr/>
          <p:nvPr/>
        </p:nvGraphicFramePr>
        <p:xfrm>
          <a:off x="533520" y="1828800"/>
          <a:ext cx="8277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77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4F2B-4485-4BE8-ABC4-85A2940684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Число лабораторных исследований, оказанных жителям Республики Татарстан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(на 100 амбулаторных посещений) 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Rectangle 3"/>
          <p:cNvGraphicFramePr/>
          <p:nvPr/>
        </p:nvGraphicFramePr>
        <p:xfrm>
          <a:off x="361800" y="1828800"/>
          <a:ext cx="8382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828800"/>
                    <a:ext cx="8382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BA35-CADD-4700-A835-30649F081E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Число физиотерапевтических процедур, оказанных жителям Республики Татарстан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(на 100 амбулаторных посещений) в 1998-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Rectangle 3"/>
          <p:cNvGraphicFramePr/>
          <p:nvPr/>
        </p:nvGraphicFramePr>
        <p:xfrm>
          <a:off x="409680" y="1828800"/>
          <a:ext cx="8305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28800"/>
                    <a:ext cx="8305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8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836D-95F5-41E7-9EF3-ABB226AF6C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5:37:12Z</dcterms:created>
  <dc:creator>worker</dc:creator>
  <dc:description/>
  <dc:language>en-US</dc:language>
  <cp:lastModifiedBy>worker</cp:lastModifiedBy>
  <dcterms:modified xsi:type="dcterms:W3CDTF">2008-07-01T14:10:16Z</dcterms:modified>
  <cp:revision>114</cp:revision>
  <dc:subject/>
  <dc:title>Слайд 1</dc:title>
</cp:coreProperties>
</file>